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08F-152E-48C2-955B-92503E3C7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5D75-CBC6-4272-9021-99C3056F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774-F18B-4959-8FD3-8546C2F7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8C1-3FDB-4030-854D-DC9D38D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B7D-DB88-4BDA-84C8-E9F988C2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401-18F1-4426-8EEC-2C3B3FE4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7BE-0D52-4A14-9C6C-3B21C865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4B6-171E-4E61-9A2A-92141393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578-8753-46CD-BA29-1A760A1C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83E-A824-464D-A4BD-E4B6E9C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1D9-098A-462B-AF7D-12EA3BA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9E0-8CC5-461C-B9DD-5113CCC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9B4-DF54-4C1F-974C-4CA15DE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89E-289D-4E16-8A7C-545F9C8B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64C4-1E30-4BA7-BB33-374BF11EC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oah G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447920" y="68580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000" spc="-1" strike="noStrike">
                <a:solidFill>
                  <a:srgbClr val="000000"/>
                </a:solidFill>
                <a:latin typeface="Arial"/>
              </a:rPr>
              <a:t>Αρχαία Ελληνικ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eek City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olis.jpg"/>
          <p:cNvPicPr/>
          <p:nvPr/>
        </p:nvPicPr>
        <p:blipFill>
          <a:blip r:embed="rId1"/>
          <a:stretch/>
        </p:blipFill>
        <p:spPr>
          <a:xfrm>
            <a:off x="17640" y="1752480"/>
            <a:ext cx="9126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udy of wisdom and the right way to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hilosophy.jpg"/>
          <p:cNvPicPr/>
          <p:nvPr/>
        </p:nvPicPr>
        <p:blipFill>
          <a:blip r:embed="rId1"/>
          <a:stretch/>
        </p:blipFill>
        <p:spPr>
          <a:xfrm>
            <a:off x="9360" y="1828800"/>
            <a:ext cx="91346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ea of land nearly surround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eninsula.jp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oponnesian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0" y="106668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ar between Athens and Sp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eloponnesian.jpg"/>
          <p:cNvPicPr/>
          <p:nvPr/>
        </p:nvPicPr>
        <p:blipFill>
          <a:blip r:embed="rId1"/>
          <a:stretch/>
        </p:blipFill>
        <p:spPr>
          <a:xfrm>
            <a:off x="-20520" y="2133720"/>
            <a:ext cx="916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ig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kind of government that is run by a small group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ligarchy.jpg"/>
          <p:cNvPicPr/>
          <p:nvPr/>
        </p:nvPicPr>
        <p:blipFill>
          <a:blip r:embed="rId1"/>
          <a:stretch/>
        </p:blipFill>
        <p:spPr>
          <a:xfrm>
            <a:off x="1905120" y="1828800"/>
            <a:ext cx="5562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eltered place along a coast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arbor.jpg"/>
          <p:cNvPicPr/>
          <p:nvPr/>
        </p:nvPicPr>
        <p:blipFill>
          <a:blip r:embed="rId1"/>
          <a:stretch/>
        </p:blipFill>
        <p:spPr>
          <a:xfrm>
            <a:off x="-6480" y="1676520"/>
            <a:ext cx="9150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cropolis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lace where Greeks meet and conduc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gora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wmaking place where people voted on issues that helped their 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ssembly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rson who has certain rights and responsibilities to his or her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greek.jpg"/>
          <p:cNvPicPr/>
          <p:nvPr/>
        </p:nvPicPr>
        <p:blipFill>
          <a:blip r:embed="rId1"/>
          <a:stretch/>
        </p:blipFill>
        <p:spPr>
          <a:xfrm>
            <a:off x="1143000" y="2214720"/>
            <a:ext cx="64771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roup of people who lived apart from Greece but kept economic ties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olon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orm of government where people vote to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emocracy.jpg"/>
          <p:cNvPicPr/>
          <p:nvPr/>
        </p:nvPicPr>
        <p:blipFill>
          <a:blip r:embed="rId1"/>
          <a:stretch/>
        </p:blipFill>
        <p:spPr>
          <a:xfrm>
            <a:off x="0" y="2035080"/>
            <a:ext cx="9144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ear evidence and make decisions in a court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jury.jpg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headed by one 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monarchy.jpg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2T16:29:58Z</dcterms:modified>
  <cp:revision>94</cp:revision>
  <dc:subject/>
  <dc:title>Ancient Greece</dc:title>
</cp:coreProperties>
</file>